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1C3-AC01-4EAA-B91D-38C54178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993-CA16-4D80-9D5C-576A3BAF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19D16-EB0D-4C9D-B180-7A40488F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7DEF1-DF7B-44FB-81DF-DD2583E9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07F4B-9C7A-458B-88DE-794BFEC6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D8055-B0B0-4951-9C9B-990D132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B5C36-7E10-4B31-8438-A81AC09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276DD-4885-420D-9004-D8D5E762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F87E7-8CDB-4B1D-AFA1-FE4948B1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27770-92DA-4C1F-8F56-EDA21CA8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E3EC4-60B6-46ED-B651-AD5AAB0D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90B9F-76F7-4EE2-848F-E720F8F9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106-D5B2-4DC0-BFCE-7666CEC0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064A3-E7D4-494C-98E9-46FE5AB2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35054-4BD7-4AC2-A5E1-8D034196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EA7C2-9764-4649-893C-769792E4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E03BE-DE73-47D5-A267-C4649A82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3FE4A-8E46-4AA3-8A09-326C94D2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25CDB-7125-46CF-B151-C55F858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849E7-214C-4872-B56B-91D5DDDC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2DF11-E030-47E2-B855-72DC9B5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8D957-4931-46DD-87A4-291E9DFB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69111-1597-425F-99B0-D7D667D4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DED-5D82-4C00-A5CA-8FC33BA5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B0F56-8A82-4A9E-B06C-D886A3DD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E0A96-FF7E-4A40-93AE-4949CB96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19EEE-D151-48A6-94D4-4FCABD3A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1A7C0-F555-4BA7-81C4-46C4C728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D5158-5E33-47A9-8A9D-368D98E2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F6F0A-E4AD-4F64-8DB8-67A9AFB4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C9F03-66CD-4F39-A1FD-0869299C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8EF43-9E50-4AAB-8763-CE3B2588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84240-0562-43E5-BA3F-BB17801F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7082B-0B79-4AA1-9474-3031CD8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0A87-E320-4546-8AF7-6FB85CE8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CC1E0-B911-4CB1-86FE-B396E467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A3714-ADFA-4AC7-960D-A7CC6A37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92744-7F22-4472-984D-37A22C3B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5C74A-A6C7-452E-90DB-BC7873EC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40AF8-A8FC-48F3-A2CE-CBBA7136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11DC2-6D25-48FA-A7B4-892B3091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F3E30-F010-49B3-87A8-CC7E7632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3A78E-78D4-41D0-852B-8CD6D3FF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A00C7-6294-420C-8CF1-E2703AAC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A97EB-6019-4279-BC85-280CA61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B44A-64D0-484C-A849-AE635102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B7728-FB7E-49C7-B663-3C03E23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2E3F0-4C16-4547-BDB4-5BD9C5DA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91FD2-5796-46F4-992E-74274A5F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90B50-3458-4D71-8CEE-B1F56B21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99EE9-E52F-4690-AB01-A00BB69F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74B4-9636-460F-94A2-A7E7BA3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F6D3-F654-404A-BB5D-05BE6277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25BF-F141-48B0-82AD-D887076C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59AB-9E9E-4CF6-B041-7EF1655A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FE87-544F-4FC5-82A0-2F1668DA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D84-2E1C-4A1D-99C2-45CBEB3B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3889-666A-4F3D-8A14-3B33707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DA4A-3FA9-4EF0-8E9C-91B4DA48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33C7-6352-43C1-8F9C-130B37D1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8AF1-E8AD-4EC1-A7E9-D2615DF8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FC65-57D5-4900-9BB1-92D2F0E1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C4DC-4370-4ABC-BEA5-A5582810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2DFC6-3843-477F-A899-8941C658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C015-C54D-4848-B0CB-5F6DBE0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CD6D-45AE-445C-BF08-6E09B024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8C64-60C1-41DC-80C7-362FF3FD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1F9-1D05-4942-B646-F0712B42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B207-7077-4061-9E85-BA6B196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E044-E2C2-4206-A2AC-6976C8E1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4425-31E9-4C59-B1D4-1870CF8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AE75-90BC-4B53-8451-C3D7F8B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9B2B-4AD9-4CB3-ACCF-072F4FC7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03F4-CDD3-40C6-BA6C-C65CA008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DE4D-0006-455F-AF77-952D3B66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127D-0E04-4051-B546-90A8B32D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861D-5834-46A5-BD3F-BB39188E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9B33-B744-4B13-91F1-BAC41D1E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D79-88B6-4267-BA39-602CB065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34E6F-1D93-4D30-8E36-BA1BE6FC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C3D0-9D5B-4989-9D25-0706B155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B47CE-43F9-457B-9A8D-8E2308EE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63F79-B088-41FE-BEBB-A99F5D69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688D-A5DF-4F7A-A2F9-36328590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163C-E550-4A9F-948B-C24C3B9D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B4C8-2C21-47BD-8EF6-91F970BC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53CE-EBB9-40DC-B0DB-F2D396D7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AB9E-D210-4F68-84E4-02981F98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1435-E6BA-450C-9A15-661F6662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0F2-14AF-45DE-A236-9CE3D545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7868-F052-4AFE-8255-DFD0B2E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AD76-F056-463C-9DF2-16053BD8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596A-32FE-4EF7-9309-3E99A778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95F89-D7D7-4B3F-86E3-80DA89C9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B56F8-1C83-4D6C-9ACE-461C9D05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40D3E-2885-4EF8-8228-58BB505E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51F20-ACA2-47E4-9089-452EF365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62F7F-251D-41C4-9A41-CE71756D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4CF5A-B6E4-455F-A886-D0DE055A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35C0F-3DCF-4D5C-842D-204043E5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B39-F832-4ACF-818E-BD3E7342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3AC1E-71E8-4FDE-A231-A8F9AF4E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3F20-93AC-4381-B094-888446AA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165F-A191-424F-B5FC-7B3D4DA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82D50-81F9-4FF1-8121-4348EB59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39010-A866-4185-819B-950C0B18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A1960-7F0C-4E9D-90B5-79CDB12B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CB943-435A-4BA7-866E-434DABF3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7A71F-BF76-4772-9223-81009FA0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A8950-2734-41C6-AE10-14B4AFF9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D5AA5-0C80-4B2B-9B84-D11C1CE9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85E-9804-4D49-9AC9-FC4BAD3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D46A3-87EE-4B5F-A230-03B74F72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48DB9-6813-44B4-8B5C-3842B43B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53E31-B2F2-40F2-BE39-FF2C09F6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1DFB5-2D57-439F-BD88-E7CE3F88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1CF4-EE65-454E-A91E-5901F315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61D04-A8A8-466F-ACE2-BFE794D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586E7-6A92-4CE5-99A6-E9CD2A9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C3034-7E73-4AB1-AB4F-792C2FD8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81786-A249-450A-9D2C-0B3D0F06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AECE-8017-434A-AB8A-CDD5D390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1C6-A9B7-4013-BEB4-25B6F7F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1EE6A-C9A7-4EC3-A297-FBA71747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483D2-A381-431A-9233-75530F7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1257-8080-44E2-A824-1E98F844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920C9-4E27-46CE-8263-5C89AF97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0C75-7702-4AE9-93CF-AF1F5792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D65C2-32FB-4B3C-AD67-836154AB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DE04-0131-4996-A380-35B281E3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8E551-C042-4578-941B-37311242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FFB77-7F58-4422-8C8B-590859C4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A1822-6420-4A8A-A54D-6B832536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A6C-AAEA-4956-A0E9-668B4A4A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82741-8E30-4BA8-A6A6-713669B9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9EE4E-1A54-44AA-AF69-5DDE0037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63E0B-8C3D-4A71-B79A-B7AC58A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6A81B-9F4A-48C8-B10B-5B31F36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AB3D1-149C-4A32-8DB7-6A606051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78DD8-A919-484F-9524-E8318D4E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18FE-125D-4CBD-9DAE-84C8CF8E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92916-CFC0-4AA7-AEDA-391272C1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F2D57-6BA2-4A8D-AFEF-583818EA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745C5-AB68-4F90-91E5-106A5C93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75CE-5320-41BE-98DE-778D81B71D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4420-F2E0-4493-B654-FD3B1B34DA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B7FC-79E2-4DAC-84DA-4D0FC5E08B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12AC-AB5F-4FAC-B446-EF53A5831A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14C9-8570-447B-80A6-0B1BA01554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DA54-04BB-4DB7-B7D8-981A9E7250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BD92-F5E5-442E-9BF9-005AE4A25F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BBEC-C35D-4D87-8901-3A1337638A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3026-9C90-472D-B69D-5A7F852856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5863-89BA-4040-90EA-22E8226D00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12EE-2AB8-44A7-898B-70BA3FC824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3804-9314-4A4B-A77B-FAE5DEFEA5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5 Akú istot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ú radosť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ho dúf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dôverou naň zrak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ho dúf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len na neho sa spolieha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ú istotu, akú radosť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na Ježiša nádeja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pomoc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 som nikdy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na neho vždy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ho dúf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dôverou naň zrak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ho dúf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len na neho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pokoj svoj rád mi dar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jeho Slov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db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a raduj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 ním putuj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ňom priateľa i radc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ho dúf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dôverou naň zrak upier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ho dúf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len na neho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ám príčin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om sa bá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štitu keď v Ježišovi m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ma on má rá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hce pri mne st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to na neho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20:07Z</dcterms:modified>
  <cp:revision>21</cp:revision>
  <dc:subject/>
  <dc:title>Je veľký náš Pán, on slávy je Kráľ Nech do všetkých strán  spev vrúcnych znie chvál.</dc:title>
</cp:coreProperties>
</file>